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FC9-D0D9-4E48-830D-B30EBA84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9EF8-DD42-4CC2-AB73-5A434DBA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27A-C33D-4E79-845B-DD60764A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CA4-3445-4689-934D-87D5A0B0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D37-16B6-42C3-AE90-C41263C0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B4D-E710-4252-8042-83DD4F46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0D1-F1C1-436A-98BD-59F8171B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120-7EEB-4615-AD0D-FB4CD66D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76B-01F3-4C61-9F1F-4090A1F9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E79-68D7-4DAB-BD34-764437CF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4F1-B22B-4928-AD6C-D6B43A4F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073-4D08-4DC4-872F-CD670833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F16B-6DB2-46ED-A605-4885A9CD8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10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965960" y="302184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ВАЛИДНОСТ И ЗНАЧАЈ ДОК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О НЕЖЕЉЕНИМ ДЕЈСТВИ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нежељеним дејствима валид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групе болесника у студији биле у свему слич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зузев у изложености новом ле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ефекти и нежељена дејства регистровани на исти начин у обе груп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пацијенти праћени комплетно и довољно дуг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нежељеним дејствима валид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резултати задовољав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неке дијагностичке тестове за узрочно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је јасно да је излагање леку претходило појави нежељеног деј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постоји веза између дозе и ефек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Постоје ли подаци који говоре о повлачењу нежељеног ефекта после прекида примене лека или о поновној појави нежељеног ефекта после поновне примене ле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је асоцијација лека и нежељеног ефекта конзистентна од студије до студиј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постоји биолошко објашњење асоцијациј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ати студије о нежељеним дејствима клинички значај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Потребно је израчунати релативно и апсолутно повећање ризика код клиничких студије или кохортних студ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Значајно релативно повећање ризика је 3 пута или ви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ејс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трол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удиј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рачуна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s rat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начајан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s rat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псолутно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ећањ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рачуна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Needed to Harm (100/APR)    *APR=апсолутно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ећањ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Како израчунати релативни ризик 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dds rat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428760" y="2071800"/>
          <a:ext cx="827568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2756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9:09Z</dcterms:modified>
  <cp:revision>58</cp:revision>
  <dc:subject/>
  <dc:title>Slide 1</dc:title>
</cp:coreProperties>
</file>